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19B3-152F-4FA5-9607-AAE974079F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a microscope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e toda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 of th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m of the experiment was to make a microscope slide of an onion skin, look at it at different magnifications and draw what we saw.  We needed to identify the cell walls, nucleus and the cytopla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safe we wore goggles and were very careful how we used the scalpel.  Because the glass could have broken we were very careful how we held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periment we used a microscope, a glass slide, a cover slip, a pair of forceps and a piece of onion sk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ut open an onion and took a piece of very thin skin.  We placed this onto the middle of a microscope slid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we put a thin piece of glass called a cover slip on top of the onion skin and gently pressed it fl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at we put the slide under a microscope with the lens set at low magn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turned the focus dial until we could clearly see the skin.  We used a pencil to draw what we saw and labelled it with the magn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at we saw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gher the magnification we us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ger the cells beca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20 x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50 x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100 x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up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ion 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croscope let us see the onion skin at different magnifica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 x 20 magnification it still looked quite far away but we could see some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x 50 magnification we could see the cells clearl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x 100 magnification we could see individual cells, and the cell walls containing the cytopla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646C-FF3D-4EA3-A34A-005CACF7F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62AB-54F8-44E3-8322-E67F0B68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F94E-6561-462D-A3AE-9B460F74C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016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152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44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016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152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3BF2-4B95-45C0-A9A7-2D4A2B8C0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8392-1D15-439A-BB6F-EDCF4771D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AF2E-6D5B-4F46-9C9B-B61E005B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1DF9-D668-4FDE-8759-91CE86F9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8B6A-46F7-4581-A85C-B317C422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FE1D-7747-4CBF-AA05-D105205E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2844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DBB6-C4B0-4153-AC08-5EFA8B23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C86F-B123-488B-A76C-4C355194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EAB0-B588-4B49-9E1E-58A8F3C7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F0F6-CBF3-452D-86E5-99081995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1718-ABD0-43E1-9391-230E7D98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8213-B882-423A-916B-1BAC3B5E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FF60-8502-48BB-B0A7-1C8862DF0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7016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1152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82844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07016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1152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5C98-89E7-4959-B53C-F3F4D1FED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627F-B61A-4970-9337-3C17D164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8E16-5596-4A2E-810A-7705E6F8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3F50-B2F5-407F-B476-D603C88D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44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6504-E5B8-4322-9BA0-026FCAC3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6AD0-39D8-4C2F-B8C7-EBD16D15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E581-5F52-4DC6-961A-F6CA0922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52DE-5E52-4A40-9A98-0C218E9C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7A50-1ACA-4D60-96EA-AA3EC6E5E575}" type="slidenum"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lens_anim"/>
          <p:cNvPicPr/>
          <p:nvPr/>
        </p:nvPicPr>
        <p:blipFill>
          <a:blip r:embed="rId3"/>
          <a:stretch/>
        </p:blipFill>
        <p:spPr>
          <a:xfrm>
            <a:off x="7010280" y="47242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F599-8A9D-4C1B-8D0B-370C954BB4A6}" type="slidenum"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71280" y="162828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Making a microscope slid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1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124000" y="83664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e date today 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Aim of the experimen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27280" y="2205000"/>
            <a:ext cx="612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e aim of the experiment was to make a microscope slide of an onion skin, look at it at different magnifications and draw what we saw.  We needed to identify the cell walls, nucleus and the cytoplasm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6" descr="exclaim_hg_clr"/>
          <p:cNvPicPr/>
          <p:nvPr/>
        </p:nvPicPr>
        <p:blipFill>
          <a:blip r:embed="rId1"/>
          <a:stretch/>
        </p:blipFill>
        <p:spPr>
          <a:xfrm>
            <a:off x="8129520" y="260280"/>
            <a:ext cx="843120" cy="21099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Safety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0000" y="2133720"/>
            <a:ext cx="555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o be safe we wore goggles and were very careful how we used the scalpel.  Because the glass could have broken we were very careful how we held it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3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6" descr="chemical_hazard_safety_poisonous_square_rotate_lg_clr"/>
          <p:cNvPicPr/>
          <p:nvPr/>
        </p:nvPicPr>
        <p:blipFill>
          <a:blip r:embed="rId1"/>
          <a:stretch/>
        </p:blipFill>
        <p:spPr>
          <a:xfrm>
            <a:off x="2700360" y="549360"/>
            <a:ext cx="1238400" cy="1238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safety_goggles_detail_lg_clr"/>
          <p:cNvPicPr/>
          <p:nvPr/>
        </p:nvPicPr>
        <p:blipFill>
          <a:blip r:embed="rId2"/>
          <a:stretch/>
        </p:blipFill>
        <p:spPr>
          <a:xfrm>
            <a:off x="6372360" y="907920"/>
            <a:ext cx="1145880" cy="6811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Apparatu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87640" y="2492280"/>
            <a:ext cx="56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In this experiment we used a microscope, a glass slide, a cover slip, a pair of forceps and a piece of onion skin.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4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7" descr="microscope_switching_lenses_hg_clr"/>
          <p:cNvPicPr/>
          <p:nvPr/>
        </p:nvPicPr>
        <p:blipFill>
          <a:blip r:embed="rId1"/>
          <a:stretch/>
        </p:blipFill>
        <p:spPr>
          <a:xfrm>
            <a:off x="6659640" y="404640"/>
            <a:ext cx="1438200" cy="17719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Metho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84000" y="1699920"/>
            <a:ext cx="62341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We cut open an onion and took a piece of very thin skin.  We placed this onto the middle of a microscope slide.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n we put a thin piece of glass called a cover slip on top of the onion skin and gently pressed it flat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fter that we put the slide under a microscope with the lens set at low magnification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5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6" descr="mad_scientist_mixing_solution_hg_clr"/>
          <p:cNvPicPr/>
          <p:nvPr/>
        </p:nvPicPr>
        <p:blipFill>
          <a:blip r:embed="rId1"/>
          <a:stretch/>
        </p:blipFill>
        <p:spPr>
          <a:xfrm>
            <a:off x="6588000" y="333360"/>
            <a:ext cx="1084320" cy="148896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Metho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84000" y="1699920"/>
            <a:ext cx="62341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We turned the focus dial until we could clearly see the skin.  We used a pencil to draw what we saw and labelled it with the magnification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6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6" descr="mad_scientist_mixing_solution_hg_clr"/>
          <p:cNvPicPr/>
          <p:nvPr/>
        </p:nvPicPr>
        <p:blipFill>
          <a:blip r:embed="rId1"/>
          <a:stretch/>
        </p:blipFill>
        <p:spPr>
          <a:xfrm>
            <a:off x="6588000" y="333360"/>
            <a:ext cx="1084320" cy="14889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19280" y="691920"/>
            <a:ext cx="338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Result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700000" y="17622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is is what we saw. 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 higher the magnification we used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 bigger the cells became.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7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mag1"/>
          <p:cNvPicPr/>
          <p:nvPr/>
        </p:nvPicPr>
        <p:blipFill>
          <a:blip r:embed="rId1"/>
          <a:stretch/>
        </p:blipFill>
        <p:spPr>
          <a:xfrm>
            <a:off x="3179880" y="4255920"/>
            <a:ext cx="1247760" cy="828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mag2"/>
          <p:cNvPicPr/>
          <p:nvPr/>
        </p:nvPicPr>
        <p:blipFill>
          <a:blip r:embed="rId2"/>
          <a:stretch/>
        </p:blipFill>
        <p:spPr>
          <a:xfrm>
            <a:off x="5146560" y="4265640"/>
            <a:ext cx="1225800" cy="819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mag3"/>
          <p:cNvPicPr/>
          <p:nvPr/>
        </p:nvPicPr>
        <p:blipFill>
          <a:blip r:embed="rId3"/>
          <a:stretch/>
        </p:blipFill>
        <p:spPr>
          <a:xfrm>
            <a:off x="7236000" y="4267080"/>
            <a:ext cx="1225440" cy="8175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9"/>
          <p:cNvSpPr/>
          <p:nvPr/>
        </p:nvSpPr>
        <p:spPr>
          <a:xfrm>
            <a:off x="3130560" y="3568680"/>
            <a:ext cx="20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At 20 x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magn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005440" y="3568680"/>
            <a:ext cx="17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At 50 x magn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7054920" y="3573360"/>
            <a:ext cx="20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At 100 x magn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3" descr="mad_scientist_giving_lecture_hg_clr"/>
          <p:cNvPicPr/>
          <p:nvPr/>
        </p:nvPicPr>
        <p:blipFill>
          <a:blip r:embed="rId4"/>
          <a:stretch/>
        </p:blipFill>
        <p:spPr>
          <a:xfrm>
            <a:off x="6659640" y="549360"/>
            <a:ext cx="1476360" cy="13111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5"/>
          <p:cNvSpPr/>
          <p:nvPr/>
        </p:nvSpPr>
        <p:spPr>
          <a:xfrm>
            <a:off x="6516720" y="522936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Cell 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6"/>
          <p:cNvSpPr/>
          <p:nvPr/>
        </p:nvSpPr>
        <p:spPr>
          <a:xfrm flipV="1">
            <a:off x="7380360" y="4436640"/>
            <a:ext cx="287280" cy="863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5219640" y="525312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Nucle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3133800" y="5153040"/>
            <a:ext cx="158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Close up of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onion sk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9"/>
          <p:cNvSpPr/>
          <p:nvPr/>
        </p:nvSpPr>
        <p:spPr>
          <a:xfrm flipV="1">
            <a:off x="5508720" y="4508640"/>
            <a:ext cx="0" cy="79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7093080" y="5805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7702560" y="522936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Cytopla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2"/>
          <p:cNvSpPr/>
          <p:nvPr/>
        </p:nvSpPr>
        <p:spPr>
          <a:xfrm flipH="1" flipV="1">
            <a:off x="8027640" y="4868640"/>
            <a:ext cx="28908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Our conclusion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71280" y="1699920"/>
            <a:ext cx="58388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 microscope let us see the onion skin at different magnifications.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t  x 20 magnification it still looked quite far away but we could see some cells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t x 50 magnification we could see the cells clearly.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t x 100 magnification we could see individual cells, and the cell</a:t>
            </a: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walls containing the cytoplasm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48" name="Picture 4" descr="mad_scientist_magnifying_glass_hg_clr"/>
          <p:cNvPicPr/>
          <p:nvPr/>
        </p:nvPicPr>
        <p:blipFill>
          <a:blip r:embed="rId1"/>
          <a:stretch/>
        </p:blipFill>
        <p:spPr>
          <a:xfrm>
            <a:off x="7164360" y="476280"/>
            <a:ext cx="1093680" cy="13064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8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9T11:59:39Z</dcterms:created>
  <dc:creator>The Learning Trust</dc:creator>
  <dc:description/>
  <dc:language>en-US</dc:language>
  <cp:lastModifiedBy>LEGION2</cp:lastModifiedBy>
  <dcterms:modified xsi:type="dcterms:W3CDTF">2016-01-11T13:35:08Z</dcterms:modified>
  <cp:revision>48</cp:revision>
  <dc:subject/>
  <dc:title>Making a microscope slide</dc:title>
</cp:coreProperties>
</file>